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98C-459E-4235-AA86-7AF739DF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BC6-F2CE-480E-B13B-6BBA4B6B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CD7-84D8-4507-9759-BC5428DC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01C-4904-4BD4-B834-3526B81B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F09C-E588-47D5-8DF9-81495806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EB67-AF98-4A50-8EA3-2DEA2092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EAC7-2603-4CB2-B5A4-4214F6F9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0207-B2C2-4046-AA42-66B94130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5372-BF20-4076-8C08-8F1E4823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741B-63CF-4CB9-85D0-5A78F630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2389-B54A-4933-8143-7C459FB2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CC4-B241-4C1C-AEA1-2F10ED01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5CE1-83AB-4A65-8B98-BB038836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DDB9-63F4-4487-9A34-C687E017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C7A7-348E-441B-AA4A-6CD3895A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A17B-9CE0-47AB-A418-F904E168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A26E-EE04-4C02-8D64-197A98C1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BA1-D24A-45FB-ACC4-BAE21C81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5C3-3E3F-4FF8-A88E-9D663BE5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188-7D4D-4396-A82C-25B86E47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3D9-020C-44B7-A2D9-171589E6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0A7-6141-45C5-A171-D4540D67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532-F99D-4D9D-8BD6-E245817E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B11-7313-4E28-BB73-7862F837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DFB8-733E-4430-9756-BA0B632697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EF6E-B114-4C74-A7C0-0E746785D6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spu.unibel.by/teacher/Maliugin/Ancient1/Ludi/aegypt.htm" TargetMode="External"/><Relationship Id="rId2" Type="http://schemas.openxmlformats.org/officeDocument/2006/relationships/hyperlink" Target="http://www.bspu.unibel.by/teacher/Maliugin/Ancient1/Ludi/Pliopithecus.htm" TargetMode="External"/><Relationship Id="rId3" Type="http://schemas.openxmlformats.org/officeDocument/2006/relationships/hyperlink" Target="http://www.bspu.unibel.by/teacher/Maliugin/Ancient1/Ludi/proconsul.htm" TargetMode="External"/><Relationship Id="rId4" Type="http://schemas.openxmlformats.org/officeDocument/2006/relationships/hyperlink" Target="http://www.bspu.unibel.by/teacher/Maliugin/Ancient1/Ludi/afropithecus.htm" TargetMode="External"/><Relationship Id="rId5" Type="http://schemas.openxmlformats.org/officeDocument/2006/relationships/hyperlink" Target="http://www.bspu.unibel.by/teacher/Maliugin/Ancient1/Ludi/siva.htm" TargetMode="External"/><Relationship Id="rId6" Type="http://schemas.openxmlformats.org/officeDocument/2006/relationships/hyperlink" Target="http://www.bspu.unibel.by/teacher/Maliugin/Ancient1/Ludi/drio.htm" TargetMode="External"/><Relationship Id="rId7" Type="http://schemas.openxmlformats.org/officeDocument/2006/relationships/hyperlink" Target="http://www.bspu.unibel.by/teacher/Maliugin/Ancient1/Ludi/rama.htm" TargetMode="External"/><Relationship Id="rId8" Type="http://schemas.openxmlformats.org/officeDocument/2006/relationships/hyperlink" Target="http://www.bspu.unibel.by/teacher/Maliugin/Ancient1/Ludi/Pierolapithecus.htm" TargetMode="External"/><Relationship Id="rId9" Type="http://schemas.openxmlformats.org/officeDocument/2006/relationships/hyperlink" Target="http://www.bspu.unibel.by/teacher/Maliugin/Ancient1/Ludi/sahelantrobus.htm" TargetMode="External"/><Relationship Id="rId10" Type="http://schemas.openxmlformats.org/officeDocument/2006/relationships/hyperlink" Target="http://www.bspu.unibel.by/teacher/Maliugin/Ancient1/Ludi/orrorin.htm" TargetMode="External"/><Relationship Id="rId11" Type="http://schemas.openxmlformats.org/officeDocument/2006/relationships/hyperlink" Target="http://www.bspu.unibel.by/teacher/Maliugin/Ancient1/Ludi/kadobba.htm" TargetMode="External"/><Relationship Id="rId12" Type="http://schemas.openxmlformats.org/officeDocument/2006/relationships/hyperlink" Target="http://www.bspu.unibel.by/teacher/Maliugin/Ancient1/Ludi/ramidus.htm" TargetMode="External"/><Relationship Id="rId13" Type="http://schemas.openxmlformats.org/officeDocument/2006/relationships/hyperlink" Target="http://www.bspu.unibel.by/teacher/Maliugin/Ancient1/Ludi/anamensis.htm" TargetMode="External"/><Relationship Id="rId14" Type="http://schemas.openxmlformats.org/officeDocument/2006/relationships/hyperlink" Target="http://www.bspu.unibel.by/teacher/Maliugin/Ancient1/Ludi/afarensis.htm" TargetMode="External"/><Relationship Id="rId15" Type="http://schemas.openxmlformats.org/officeDocument/2006/relationships/hyperlink" Target="http://www.bspu.unibel.by/teacher/Maliugin/Ancient1/Ludi/Kenyanthropus.htm" TargetMode="External"/><Relationship Id="rId16" Type="http://schemas.openxmlformats.org/officeDocument/2006/relationships/hyperlink" Target="http://www.bspu.unibel.by/teacher/Maliugin/Ancient1/Ludi/bahrel.htm" TargetMode="External"/><Relationship Id="rId17" Type="http://schemas.openxmlformats.org/officeDocument/2006/relationships/hyperlink" Target="http://www.bspu.unibel.by/teacher/Maliugin/Ancient1/Ludi/africanus.htm" TargetMode="External"/><Relationship Id="rId18" Type="http://schemas.openxmlformats.org/officeDocument/2006/relationships/hyperlink" Target="http://www.bspu.unibel.by/teacher/Maliugin/Ancient1/Ludi/garhi.htm" TargetMode="External"/><Relationship Id="rId19" Type="http://schemas.openxmlformats.org/officeDocument/2006/relationships/hyperlink" Target="http://www.bspu.unibel.by/teacher/Maliugin/Ancient1/Ludi/aethiopicus.htm" TargetMode="External"/><Relationship Id="rId20" Type="http://schemas.openxmlformats.org/officeDocument/2006/relationships/hyperlink" Target="http://www.bspu.unibel.by/teacher/Maliugin/Ancient1/Ludi/boisei.htm" TargetMode="External"/><Relationship Id="rId21" Type="http://schemas.openxmlformats.org/officeDocument/2006/relationships/hyperlink" Target="http://www.bspu.unibel.by/teacher/Maliugin/Ancient1/Ludi/robustus.htm" TargetMode="External"/><Relationship Id="rId22" Type="http://schemas.openxmlformats.org/officeDocument/2006/relationships/hyperlink" Target="http://www.bspu.unibel.by/teacher/Maliugin/Ancient1/Ludi/habilis.htm" TargetMode="External"/><Relationship Id="rId23" Type="http://schemas.openxmlformats.org/officeDocument/2006/relationships/hyperlink" Target="http://www.bspu.unibel.by/teacher/Maliugin/Ancient1/Ludi/rudolfensis.htm" TargetMode="External"/><Relationship Id="rId24" Type="http://schemas.openxmlformats.org/officeDocument/2006/relationships/hyperlink" Target="http://www.bspu.unibel.by/teacher/Maliugin/Ancient1/Ludi/Georgicus.htm" TargetMode="External"/><Relationship Id="rId25" Type="http://schemas.openxmlformats.org/officeDocument/2006/relationships/hyperlink" Target="http://www.bspu.unibel.by/teacher/Maliugin/Ancient1/Ludi/Ergaster.htm" TargetMode="External"/><Relationship Id="rId26" Type="http://schemas.openxmlformats.org/officeDocument/2006/relationships/hyperlink" Target="http://www.bspu.unibel.by/teacher/Maliugin/Ancient1/Ludi/Erectus.htm" TargetMode="External"/><Relationship Id="rId27" Type="http://schemas.openxmlformats.org/officeDocument/2006/relationships/hyperlink" Target="http://www.bspu.unibel.by/teacher/Maliugin/Ancient1/Ludi/Antecessor.htm" TargetMode="External"/><Relationship Id="rId28" Type="http://schemas.openxmlformats.org/officeDocument/2006/relationships/hyperlink" Target="http://www.bspu.unibel.by/teacher/Maliugin/Ancient1/Ludi/telan.htm" TargetMode="External"/><Relationship Id="rId29" Type="http://schemas.openxmlformats.org/officeDocument/2006/relationships/hyperlink" Target="http://www.bspu.unibel.by/teacher/Maliugin/Ancient1/Ludi/Heidelbergensis.htm" TargetMode="External"/><Relationship Id="rId30" Type="http://schemas.openxmlformats.org/officeDocument/2006/relationships/hyperlink" Target="http://www.bspu.unibel.by/teacher/Maliugin/Ancient1/Ludi/sinan.htm" TargetMode="External"/><Relationship Id="rId31" Type="http://schemas.openxmlformats.org/officeDocument/2006/relationships/hyperlink" Target="http://www.bspu.unibel.by/teacher/Maliugin/Ancient1/Ludi/Pithecanthropus.htm" TargetMode="External"/><Relationship Id="rId32" Type="http://schemas.openxmlformats.org/officeDocument/2006/relationships/hyperlink" Target="http://www.bspu.unibel.by/teacher/Maliugin/Ancient1/Ludi/verteshel.htm" TargetMode="External"/><Relationship Id="rId33" Type="http://schemas.openxmlformats.org/officeDocument/2006/relationships/hyperlink" Target="http://www.bspu.unibel.by/teacher/Maliugin/Ancient1/Ludi/verteshel.htm" TargetMode="External"/><Relationship Id="rId34" Type="http://schemas.openxmlformats.org/officeDocument/2006/relationships/hyperlink" Target="http://www.bspu.unibel.by/teacher/Maliugin/Ancient1/Ludi/atlanthropus.htm" TargetMode="External"/><Relationship Id="rId35" Type="http://schemas.openxmlformats.org/officeDocument/2006/relationships/hyperlink" Target="http://www.bspu.unibel.by/teacher/Maliugin/Ancient1/Ludi/petralon.htm" TargetMode="External"/><Relationship Id="rId36" Type="http://schemas.openxmlformats.org/officeDocument/2006/relationships/hyperlink" Target="http://www.bspu.unibel.by/teacher/Maliugin/Ancient1/Ludi/petralon.htm" TargetMode="External"/><Relationship Id="rId37" Type="http://schemas.openxmlformats.org/officeDocument/2006/relationships/hyperlink" Target="http://www.bspu.unibel.by/teacher/Maliugin/Ancient1/Ludi/floresensis.htm" TargetMode="External"/><Relationship Id="rId38" Type="http://schemas.openxmlformats.org/officeDocument/2006/relationships/hyperlink" Target="http://www.bspu.unibel.by/teacher/Maliugin/Ancient1/Ludi/floresensis.htm" TargetMode="External"/><Relationship Id="rId39" Type="http://schemas.openxmlformats.org/officeDocument/2006/relationships/hyperlink" Target="http://www.bspu.unibel.by/teacher/Maliugin/Ancient1/Ludi/floresensis.htm" TargetMode="External"/><Relationship Id="rId40" Type="http://schemas.openxmlformats.org/officeDocument/2006/relationships/hyperlink" Target="http://www.bspu.unibel.by/teacher/Maliugin/Ancient1/Ludi/neandertal.htm" TargetMode="External"/><Relationship Id="rId41" Type="http://schemas.openxmlformats.org/officeDocument/2006/relationships/hyperlink" Target="http://www.bspu.unibel.by/teacher/Maliugin/Ancient1/Ludi/sapiens.htm" TargetMode="External"/><Relationship Id="rId42" Type="http://schemas.openxmlformats.org/officeDocument/2006/relationships/hyperlink" Target="http://www.bspu.unibel.by/teacher/Maliugin/Ancient1/Ludi/sapiens.htm" TargetMode="External"/><Relationship Id="rId43" Type="http://schemas.openxmlformats.org/officeDocument/2006/relationships/hyperlink" Target="http://www.bspu.unibel.by/teacher/Maliugin/Ancient1/Ludi/sapiens.htm" TargetMode="External"/><Relationship Id="rId44" Type="http://schemas.openxmlformats.org/officeDocument/2006/relationships/hyperlink" Target="http://www.bspu.unibel.by/teacher/Maliugin/Ancient1/Ludi/sapiens.htm" TargetMode="External"/><Relationship Id="rId45" Type="http://schemas.openxmlformats.org/officeDocument/2006/relationships/hyperlink" Target="http://www.bspu.unibel.by/teacher/Maliugin/Ancient1/Ludi/sapiens.htm" TargetMode="External"/><Relationship Id="rId4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74.125.79.101/translate_c?hl=ru&amp;sl=en&amp;u=http://dic.academic.ru/dic.nsf/cide/63080/extinct&amp;prev=/search%3Fq%3DAegyptopithecus%26hl%3Dru%26lr%3Dlang_ru%26newwindow%3D1%26client%3Dfirefox-a%26channel%3Ds%26rls%3Dorg.mozilla:ru:official%26sa%3DG&amp;usg=ALkJrhjkJC8J7nnwUwD03QCjN7V96t2jfA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851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волюция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4467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рдипитек кадабб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535280" cy="435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03640" y="1700280"/>
            <a:ext cx="39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rdipithecus kadab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вуногое 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итал в ле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6358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56000" y="1197000"/>
            <a:ext cx="4788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иету, весьма отлична от гоминид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 строению черепа близок к шимпанз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ямо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ости руки показывают смесь как обезьяньих, так и человеческих призн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608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635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785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наменс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9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anamen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ыл двуног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ольшие, обезьяноподобные клыки сочетаются с толстой эмалью зуб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тмечено наличие диастемы (промежутка между зубам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череп еще очень м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длиненн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альцы длинные и изогнут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 в сухих лесах, использовал предметы естественного происхождения в качестве оруд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9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382840" cy="590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00560" y="928800"/>
            <a:ext cx="574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ustralopithecus afaren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тянутое лицо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разное небо с парралельными друг другу рядами коренных зубов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объем мозга, в среднем составляющий 430 см3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сагиттальный греб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ямохожд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т - 105-150 см, вес - 30-45 кг, сильно выраженный половой диморфиз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роение зубов предполагает разнообразную диету без специализации на каком-то одном виде пищевых ресур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8880" y="2565360"/>
            <a:ext cx="3573360" cy="4105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932360" cy="328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325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Австралопитек бахрелджазал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345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alopithecus bahrelghaz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строении челюсти и зубов имеется весьма большое сходство с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arensi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ичие предкоренных зубов 12 трех корней, в отличие от 1-2 корней у афаренси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887640" cy="240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967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052640"/>
            <a:ext cx="5292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более округлый череп по сравнению с предыдущим видом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сагиттального гребня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лыки меньшего размера, чем у афарского австралопитек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диастемы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лицо не так выдается вперед, как у афарског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мозг по объему схож с мозгом гориллы, средний объем мозга колеблется в пределах 440-480 см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испособлен к прямохождению и брахиаторст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ост - 115-140 см, вес - 30-40 кг, половой диморф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жная Африк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треблял как растительную, так и животную пищу, легко приспосабливаясь к любым изменениям кормовых ресурсов. Не умели охотиться, занимались собирательством и падальничеств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397836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816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485960" cy="561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560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2835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стралопитек гахр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4033800" cy="3822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03640" y="1289160"/>
            <a:ext cx="414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ебольш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зга - 450 см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вытянутое лицо, строение зубов и наличие диа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рупные коренные и предкоренные зуб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имеется сагиттальный греб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апы эволюции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4619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5148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ustralopithecus bois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зинджантроп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череп приспособлен для пережевывания твердой пищ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агиттальный гребен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крупные челюсти, небольшие клыки и резцы, крупные предкоренные и коренные зуб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толстая зубная эма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ост 1,2 - 1,4 м, вес - 30-50 кг, значительный половой диморфиз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ъем головного мозга - 410-530 см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мощное строение скелет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носительно длинные р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битали в сухих травянистых саваннах. Питались твердой растительной пищей. Практиковали собирательство. Возможно, использовали каменные орудия труда, грубо обработанные, без определенной фор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21440" cy="547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40000" y="0"/>
            <a:ext cx="4619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876480" cy="4033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19640" y="836640"/>
            <a:ext cx="464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robus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ощное развитие жевательной мускулистой систе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громные челюсти, большие предкоренные и коренные зубы с толстой эмал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имел кругл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зга 520 см. куб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рост 110 – 130 см, вес 30-40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меренный половой диморф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жная Афр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потребление орехов и зер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, умел изготавливать простые костяные орудия, c помощью которых извлекал терми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26240" cy="554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272360" cy="5569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770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 умелы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25800" cy="441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19640" y="981000"/>
            <a:ext cx="392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V мозга  около 670 см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руглая голова, более плоское лиц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величение поля Брока в головном мозге, которое отвечает у людей за реч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итались более мягкой пищей, чем их предшественн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линные руки и короткие но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20-130 см. Вес – 20-40 к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вуногая локомо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и Юж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готавливали примитивные орудия труда, занимались собирательст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4475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27240" cy="261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456000" cy="2255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24560" y="1360440"/>
            <a:ext cx="43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зга - 90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.5 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прямленное положение на полусогнуты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рхаическим строением черепа (толстые стенки, низкая лобная кость, выступающие надглазничные валики, скошенный подбородо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ия, остров Я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732120" cy="496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4576680" cy="504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6624720" cy="5591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5640" y="189000"/>
            <a:ext cx="4475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961080" cy="3776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67120" y="1360440"/>
            <a:ext cx="43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взрослых особей - около 1 ме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ъем головного мозга - 38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ередвигались на дву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глубоко посаженные глаза, плоский нос и выступающая вперед челюсть с крупными зуб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-в Флорес (Индонез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ели огнем и создавали довольно совершенные каменные орудия труда. Возможно, охотились на крупных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938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133880" cy="5399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052640"/>
            <a:ext cx="408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объем мозга - 1200 - 175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150 - 170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более короткие конечности тела по сравнению с современным человек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коренастое, крепко сбитое тело с массивными мышцами, малая площадь поверхности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вропа, Ближний Восток, Кавказ, Крым, Средняя Азия, Узбекис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ли добывать огонь. Питались почти исключительно мясом, Появились первые мистические/религиоз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450280" cy="102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вание Существа        Время существования (лет до н.э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 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Aegypt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 – 3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Parapithecus, propliopithecus &amp; pli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Proconsul african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 - 2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Afr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iva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1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Dry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Rama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Pierolapithecus  catalaun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Sahelantropus tchad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 – 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Orrorin tugen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Ardipithecus kadabb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8 – 5.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rdipithecus ramid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,5 – 4.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Australopithecus anam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2 – 3.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Australopithecus afar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– 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Kenyanthropus platyor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Australopithecus bahrelghazal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– 3.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Australopithecus african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– 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Australopithecus gahr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Australopithecus aethiop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7 – 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Australopithecus boise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– 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Australopithecus robus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 –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Homo habil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4 – 1.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Homo rudolf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,4 – 1,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Homo georgicu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Homo ergast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-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6"/>
              </a:rPr>
              <a:t>Homo erec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5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7"/>
              </a:rPr>
              <a:t>Homo antecess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8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28"/>
              </a:rPr>
              <a:t>Те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0 – 7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9"/>
              </a:rPr>
              <a:t>Homo heidelberg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2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0"/>
              </a:rPr>
              <a:t>Sinanthrop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0 – 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1"/>
              </a:rPr>
              <a:t>Pithecanthrop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2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2"/>
              </a:rPr>
              <a:t>Вертешселлеш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3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400 - 30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3. 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4"/>
              </a:rPr>
              <a:t>Ат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360 тыс.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4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5"/>
              </a:rPr>
              <a:t>Петралон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6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250 -15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7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8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9"/>
              </a:rPr>
              <a:t>flores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 – 1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0"/>
              </a:rPr>
              <a:t>Homo sapiens neanderthal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30 – 27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1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2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3"/>
              </a:rPr>
              <a:t>sapiens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4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5"/>
              </a:rPr>
              <a:t>sapie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0 тыс. лет и до наших дн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627800" cy="5805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6048720" cy="583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4691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оманьоне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41720" cy="4968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643280" y="1484280"/>
            <a:ext cx="41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лосложение кроманьонцев было менее массивным, чем у неандерталь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до 180-19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вытянутые «тропические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порции т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ереп высокий, прямой и более гладкий лоб, выступающий подбород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фрика,  Европа, Россия,  Укра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58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рост - 160-185 с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длинные, тонкие конечности, большая поверхность т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средний объем мозга 1400 см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уплощенный, высокий, почти вертикальный ло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иболее ранние находки - Африка, примерно 40-35 тысяч лет т.н. начал расселяться по всей планете, вытесняя более примитив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664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784760" cy="5230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ающим  шагом на пути от обезьяны к человеку явилось прямохождение. Одна из групп обезьян, живших 10 – 12 млн. лет назад, дала начало ветви, ведущей к челов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6214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5410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гипт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иптопитек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gyptopithec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вымерш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маты, жили около 38 миллионов лет назад. Останки были найдены в Егип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995640" cy="376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31748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3827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ра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ой человекообразной обезьяны, обнаруженный на территории Файюмского оазиса в 1911 году немецким ученым О.Шлоссером. Считается предшественником проплиопит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492280"/>
            <a:ext cx="3959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ществует предположение, что парапитек - начальная стадия в эволюции человекообразных обезьян и человека. Некоторые  антропологи напрочь отрицают саму возможность отнесения парапитека к примат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2486160"/>
            <a:ext cx="4319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48355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11640" y="1267920"/>
            <a:ext cx="4633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плио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ых человекообразных обезьян. Останки нижней челюсти были обнаружены в Файюмском оазисе (Египет) в слоях нижнего олигоцена вместе с останками парапитека. По строению зубов проплиопитек близок парапитеку и, возможно, является предком плиопит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27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3754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35640" y="1413000"/>
            <a:ext cx="3476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иопит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род вымерших приматов, существовавший в олигоцене и миоцене.  Впервые был обнаружен в 1837 году Э.Ларте на территории Франции. Известен по находкам остатков нижних и верхних челюстей на территории Европы, Азии и Африки. Считается предком современных гиббонов, отличаясь от них рядом примитивных призна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754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р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574880" cy="489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32360" y="1647720"/>
            <a:ext cx="388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лину достигали 6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брахиато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асса тела - 20-35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Европа, Южная Азия, Восточ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оятнее всего, обитали на деревьях и питались лесными ягодами и фру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6:45:38Z</dcterms:created>
  <dc:creator>Elena</dc:creator>
  <dc:description/>
  <dc:language>en-US</dc:language>
  <cp:lastModifiedBy>Elena</cp:lastModifiedBy>
  <dcterms:modified xsi:type="dcterms:W3CDTF">2009-01-19T20:15:03Z</dcterms:modified>
  <cp:revision>19</cp:revision>
  <dc:subject/>
  <dc:title>Эволюция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2000000000001023620</vt:lpwstr>
  </property>
</Properties>
</file>